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8D5A-27E5-4C6D-AC8A-CB257062B055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C7E6-E1FF-4CA6-8D5F-85E7B728F5E5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81EB-D7CD-4E27-B6E3-892129A2085C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E484-E5F6-40BD-B25E-0FFE04E20E8E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0C34-45D1-4897-8748-4C1C44E8CBD3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B3AF-DA9D-4F22-B5F7-F9AD1540C3C3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A070-3F09-4242-A96F-805C47AFD5B6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FE7E-C28E-4A2D-B54F-420E5B6B96AC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49D7-E489-4C35-B190-2648B136F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10A2-BDA8-454D-AA3D-3094B23C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5988-334E-489C-8942-E054A3303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B869-9836-485A-B740-D9E0B50F9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D37E-D24A-439F-A6A1-8C9A8573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A4A4-83CA-456A-9AD6-5188CADF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5E81-9D39-4587-B964-F160A708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43FB-BF8E-4952-AAF1-533B662C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8D58-4DCB-4C94-827D-122BB213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B908-2163-4CE9-BBA5-AD253A14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0903-31B5-4B10-B32B-A0358C19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4638-2918-485D-819B-BC8224AE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http://mx.wrs.yahoo.com/_ylt=A0S0zu.uAkZOazsAyXDO8Qt./SIG=12tsorifs/EXP=1313239854/**http%3a/simplywallpaper.net/pictures/2010/12/08/aqua-texture-wallpaper.jpg"/>
          <p:cNvPicPr/>
          <p:nvPr/>
        </p:nvPicPr>
        <p:blipFill>
          <a:blip r:embed="rId2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5E7F-978F-4244-894C-E676A6BA2C04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5 Marcador de número de diapositiva"/>
          <p:cNvSpPr/>
          <p:nvPr/>
        </p:nvSpPr>
        <p:spPr>
          <a:xfrm>
            <a:off x="6759720" y="623268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b7dee8"/>
                </a:solidFill>
                <a:latin typeface="Arial"/>
              </a:rPr>
              <a:t>Presentación elaborada por Enrique Lepe Garcí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00"/>
                </a:solidFill>
                <a:latin typeface="Calibri"/>
              </a:rPr>
              <a:t>Planificación de Proyectos Didácticos</a:t>
            </a:r>
            <a:endParaRPr b="1" lang="en-US" sz="4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84360" y="5791320"/>
            <a:ext cx="6400800" cy="66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ac090"/>
                </a:solidFill>
                <a:latin typeface="Calibri"/>
              </a:rPr>
              <a:t>Enrique Lepe García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2 Subtítulo"/>
          <p:cNvSpPr/>
          <p:nvPr/>
        </p:nvSpPr>
        <p:spPr>
          <a:xfrm>
            <a:off x="152388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b0f0"/>
                </a:solidFill>
                <a:latin typeface="Calibri"/>
              </a:rPr>
              <a:t>Con base en los programas de estudio de </a:t>
            </a:r>
            <a:r>
              <a:rPr b="1" lang="es-MX" sz="3600" spc="-1" strike="noStrike">
                <a:solidFill>
                  <a:srgbClr val="93cddd"/>
                </a:solidFill>
                <a:latin typeface="Calibri"/>
              </a:rPr>
              <a:t>Español 201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c00000"/>
                </a:solidFill>
                <a:latin typeface="Calibri"/>
              </a:rPr>
              <a:t>Pasos para planificar (1)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Identificar el “producto final” a elaborar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Establecer las características del producto (con base en los productos de la vida real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Identificar los propósitos: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Comunicativos (de la vida)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Didácticos (aprendizajes esperados, temas de reflexión)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c00000"/>
                </a:solidFill>
                <a:latin typeface="Calibri"/>
              </a:rPr>
              <a:t>Pasos para planificar (2)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Analizar las “producciones del proyecto” (que constituyen las etapas del mismo)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Diseñar actividades para cada “producción”: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Semejantes a las de la vida real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Usen textos auténticos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Secuenciadas lógicamente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Encaminadas al logro del producto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Que generen aprendizajes en los alumnos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7" name="3 Llamada de flecha a la izquierda"/>
          <p:cNvGrpSpPr/>
          <p:nvPr/>
        </p:nvGrpSpPr>
        <p:grpSpPr>
          <a:xfrm>
            <a:off x="6388200" y="3687840"/>
            <a:ext cx="2414520" cy="2054160"/>
            <a:chOff x="6388200" y="3687840"/>
            <a:chExt cx="2414520" cy="2054160"/>
          </a:xfrm>
        </p:grpSpPr>
        <p:pic>
          <p:nvPicPr>
            <p:cNvPr id="58" name="3 Llamada de flecha a la izquierda" descr=""/>
            <p:cNvPicPr/>
            <p:nvPr/>
          </p:nvPicPr>
          <p:blipFill>
            <a:blip r:embed="rId1"/>
            <a:stretch/>
          </p:blipFill>
          <p:spPr>
            <a:xfrm>
              <a:off x="6388200" y="3687840"/>
              <a:ext cx="2414520" cy="20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7251840" y="3716280"/>
              <a:ext cx="1496880" cy="19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Calibri"/>
                </a:rPr>
                <a:t>Prácticas sociales del lenguaj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42920" y="0"/>
            <a:ext cx="7139160" cy="4079880"/>
          </a:xfrm>
          <a:prstGeom prst="rect">
            <a:avLst/>
          </a:prstGeom>
          <a:ln w="0">
            <a:noFill/>
          </a:ln>
        </p:spPr>
      </p:pic>
      <p:grpSp>
        <p:nvGrpSpPr>
          <p:cNvPr id="61" name="3 Llamada rectangular redondeada"/>
          <p:cNvGrpSpPr/>
          <p:nvPr/>
        </p:nvGrpSpPr>
        <p:grpSpPr>
          <a:xfrm>
            <a:off x="5546880" y="3255840"/>
            <a:ext cx="2712960" cy="2059200"/>
            <a:chOff x="5546880" y="3255840"/>
            <a:chExt cx="2712960" cy="2059200"/>
          </a:xfrm>
        </p:grpSpPr>
        <p:pic>
          <p:nvPicPr>
            <p:cNvPr id="62" name="3 Llamada rectangular redondeada" descr=""/>
            <p:cNvPicPr/>
            <p:nvPr/>
          </p:nvPicPr>
          <p:blipFill>
            <a:blip r:embed="rId2"/>
            <a:stretch/>
          </p:blipFill>
          <p:spPr>
            <a:xfrm>
              <a:off x="5546880" y="3255840"/>
              <a:ext cx="271296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651640" y="4267080"/>
              <a:ext cx="25095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Calibri"/>
                </a:rPr>
                <a:t>Identificar el producto final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4 Rectángulo redondeado"/>
          <p:cNvGrpSpPr/>
          <p:nvPr/>
        </p:nvGrpSpPr>
        <p:grpSpPr>
          <a:xfrm>
            <a:off x="5546880" y="5273640"/>
            <a:ext cx="2822400" cy="1548000"/>
            <a:chOff x="5546880" y="5273640"/>
            <a:chExt cx="2822400" cy="1548000"/>
          </a:xfrm>
        </p:grpSpPr>
        <p:pic>
          <p:nvPicPr>
            <p:cNvPr id="65" name="4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5546880" y="5273640"/>
              <a:ext cx="282240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5675400" y="5372280"/>
              <a:ext cx="2570040" cy="12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Calibri"/>
                </a:rPr>
                <a:t>¿Cómo es el producto en la vida real? ¿Qué características tien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" name="5 Flecha abajo"/>
          <p:cNvSpPr/>
          <p:nvPr/>
        </p:nvSpPr>
        <p:spPr>
          <a:xfrm>
            <a:off x="6659640" y="5157720"/>
            <a:ext cx="57636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7 Rectángulo redondeado"/>
          <p:cNvGrpSpPr/>
          <p:nvPr/>
        </p:nvGrpSpPr>
        <p:grpSpPr>
          <a:xfrm>
            <a:off x="2792520" y="5273640"/>
            <a:ext cx="2827080" cy="1548000"/>
            <a:chOff x="2792520" y="5273640"/>
            <a:chExt cx="2827080" cy="1548000"/>
          </a:xfrm>
        </p:grpSpPr>
        <p:pic>
          <p:nvPicPr>
            <p:cNvPr id="69" name="7 Rectángulo redondeado" descr=""/>
            <p:cNvPicPr/>
            <p:nvPr/>
          </p:nvPicPr>
          <p:blipFill>
            <a:blip r:embed="rId4"/>
            <a:stretch/>
          </p:blipFill>
          <p:spPr>
            <a:xfrm>
              <a:off x="2792520" y="5273640"/>
              <a:ext cx="2827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914560" y="5372280"/>
              <a:ext cx="2570400" cy="12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2060"/>
                  </a:solidFill>
                  <a:latin typeface="Calibri"/>
                </a:rPr>
                <a:t>PROPÓSITO COMUNICATIV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Calibri"/>
                </a:rPr>
                <a:t>¿Para qué sirve en la vida real?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8 Rectángulo redondeado"/>
          <p:cNvGrpSpPr/>
          <p:nvPr/>
        </p:nvGrpSpPr>
        <p:grpSpPr>
          <a:xfrm>
            <a:off x="6480" y="5237280"/>
            <a:ext cx="2822400" cy="1554120"/>
            <a:chOff x="6480" y="5237280"/>
            <a:chExt cx="2822400" cy="1554120"/>
          </a:xfrm>
        </p:grpSpPr>
        <p:pic>
          <p:nvPicPr>
            <p:cNvPr id="72" name="8 Rectángulo redondeado" descr=""/>
            <p:cNvPicPr/>
            <p:nvPr/>
          </p:nvPicPr>
          <p:blipFill>
            <a:blip r:embed="rId5"/>
            <a:stretch/>
          </p:blipFill>
          <p:spPr>
            <a:xfrm>
              <a:off x="6480" y="5237280"/>
              <a:ext cx="282240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130320" y="5338800"/>
              <a:ext cx="2571480" cy="12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c00000"/>
                  </a:solidFill>
                  <a:latin typeface="Calibri"/>
                </a:rPr>
                <a:t>PROPÓSITO DIDÁCTIC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74" name="9 Conector recto de flecha"/>
          <p:cNvCxnSpPr/>
          <p:nvPr/>
        </p:nvCxnSpPr>
        <p:spPr>
          <a:xfrm flipV="1">
            <a:off x="1415520" y="3212280"/>
            <a:ext cx="420120" cy="20566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75" name="11 Conector recto de flecha"/>
          <p:cNvCxnSpPr/>
          <p:nvPr/>
        </p:nvCxnSpPr>
        <p:spPr>
          <a:xfrm flipV="1">
            <a:off x="1415880" y="3364920"/>
            <a:ext cx="2004480" cy="190404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76" name="13 Flecha izquierda"/>
          <p:cNvSpPr/>
          <p:nvPr/>
        </p:nvSpPr>
        <p:spPr>
          <a:xfrm>
            <a:off x="5364000" y="5789520"/>
            <a:ext cx="432000" cy="4636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15 Flecha izquierda"/>
          <p:cNvSpPr/>
          <p:nvPr/>
        </p:nvSpPr>
        <p:spPr>
          <a:xfrm>
            <a:off x="2627280" y="5757840"/>
            <a:ext cx="432000" cy="4636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98280" y="2276640"/>
            <a:ext cx="7137720" cy="4081320"/>
          </a:xfrm>
          <a:prstGeom prst="rect">
            <a:avLst/>
          </a:prstGeom>
          <a:ln w="0">
            <a:noFill/>
          </a:ln>
        </p:spPr>
      </p:pic>
      <p:grpSp>
        <p:nvGrpSpPr>
          <p:cNvPr id="79" name="3 Llamada rectangular redondeada"/>
          <p:cNvGrpSpPr/>
          <p:nvPr/>
        </p:nvGrpSpPr>
        <p:grpSpPr>
          <a:xfrm>
            <a:off x="3139920" y="341280"/>
            <a:ext cx="2718000" cy="2901960"/>
            <a:chOff x="3139920" y="341280"/>
            <a:chExt cx="2718000" cy="2901960"/>
          </a:xfrm>
        </p:grpSpPr>
        <p:pic>
          <p:nvPicPr>
            <p:cNvPr id="80" name="3 Llamada rectangular redondeada" descr=""/>
            <p:cNvPicPr/>
            <p:nvPr/>
          </p:nvPicPr>
          <p:blipFill>
            <a:blip r:embed="rId2"/>
            <a:stretch/>
          </p:blipFill>
          <p:spPr>
            <a:xfrm>
              <a:off x="3139920" y="341280"/>
              <a:ext cx="2718000" cy="290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3254400" y="465120"/>
              <a:ext cx="2481120" cy="11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Calibri"/>
                </a:rPr>
                <a:t>Analizar las producciones del proyect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4 Rectángulo redondeado"/>
          <p:cNvSpPr/>
          <p:nvPr/>
        </p:nvSpPr>
        <p:spPr>
          <a:xfrm>
            <a:off x="7020000" y="404640"/>
            <a:ext cx="1873080" cy="1851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alibri"/>
              </a:rPr>
              <a:t>Diseñar actividades para cada produc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7 Rectángulo redondeado"/>
          <p:cNvSpPr/>
          <p:nvPr/>
        </p:nvSpPr>
        <p:spPr>
          <a:xfrm>
            <a:off x="7221600" y="2595600"/>
            <a:ext cx="1871640" cy="3773520"/>
          </a:xfrm>
          <a:custGeom>
            <a:avLst/>
            <a:gdLst>
              <a:gd name="textAreaLeft" fmla="*/ 91080 w 1871640"/>
              <a:gd name="textAreaRight" fmla="*/ 1780560 w 1871640"/>
              <a:gd name="textAreaTop" fmla="*/ 91080 h 3773520"/>
              <a:gd name="textAreaBottom" fmla="*/ 3682440 h 3773520"/>
            </a:gdLst>
            <a:ahLst/>
            <a:rect l="textAreaLeft" t="textAreaTop" r="textAreaRight" b="textAreaBottom"/>
            <a:pathLst>
              <a:path w="21600" h="43545">
                <a:moveTo>
                  <a:pt x="3600" y="0"/>
                </a:moveTo>
                <a:arcTo wR="3600" hR="3600" stAng="16200000" swAng="-5400000"/>
                <a:lnTo>
                  <a:pt x="0" y="39945"/>
                </a:lnTo>
                <a:arcTo wR="3600" hR="3600" stAng="10800000" swAng="-5400000"/>
                <a:lnTo>
                  <a:pt x="18000" y="435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c00000"/>
                </a:solidFill>
                <a:latin typeface="Calibri"/>
              </a:rPr>
              <a:t>Vida re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c00000"/>
                </a:solidFill>
                <a:latin typeface="Calibri"/>
              </a:rPr>
              <a:t>Textos auténtic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c00000"/>
                </a:solidFill>
                <a:latin typeface="Calibri"/>
              </a:rPr>
              <a:t>Secuenciadas lógicame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c00000"/>
                </a:solidFill>
                <a:latin typeface="Calibri"/>
              </a:rPr>
              <a:t>Logro del product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c00000"/>
                </a:solidFill>
                <a:latin typeface="Calibri"/>
              </a:rPr>
              <a:t>Generen aprendizaj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9 Conector recto de flecha"/>
          <p:cNvCxnSpPr/>
          <p:nvPr/>
        </p:nvCxnSpPr>
        <p:spPr>
          <a:xfrm flipH="1">
            <a:off x="5579640" y="1409760"/>
            <a:ext cx="1416960" cy="21643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85" name="11 Conector recto de flecha"/>
          <p:cNvCxnSpPr>
            <a:stCxn id="82" idx="1"/>
          </p:cNvCxnSpPr>
          <p:nvPr/>
        </p:nvCxnSpPr>
        <p:spPr>
          <a:xfrm flipH="1">
            <a:off x="5795640" y="1329840"/>
            <a:ext cx="1224720" cy="2531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86" name="16 Conector recto de flecha"/>
          <p:cNvCxnSpPr>
            <a:stCxn id="82" idx="1"/>
          </p:cNvCxnSpPr>
          <p:nvPr/>
        </p:nvCxnSpPr>
        <p:spPr>
          <a:xfrm flipH="1">
            <a:off x="5795640" y="1329840"/>
            <a:ext cx="1224720" cy="29883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87" name="17 Conector recto de flecha"/>
          <p:cNvCxnSpPr>
            <a:stCxn id="82" idx="1"/>
          </p:cNvCxnSpPr>
          <p:nvPr/>
        </p:nvCxnSpPr>
        <p:spPr>
          <a:xfrm flipH="1">
            <a:off x="6246360" y="1329840"/>
            <a:ext cx="774000" cy="33598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88" name="20 Flecha derecha"/>
          <p:cNvSpPr/>
          <p:nvPr/>
        </p:nvSpPr>
        <p:spPr>
          <a:xfrm>
            <a:off x="6012000" y="692280"/>
            <a:ext cx="863640" cy="7920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34 Flecha abajo"/>
          <p:cNvSpPr/>
          <p:nvPr/>
        </p:nvSpPr>
        <p:spPr>
          <a:xfrm>
            <a:off x="7740720" y="2255760"/>
            <a:ext cx="647640" cy="568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3680" y="730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c00000"/>
                </a:solidFill>
                <a:latin typeface="Calibri"/>
              </a:rPr>
              <a:t>Diseñar actividades</a:t>
            </a: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rcRect l="64992" t="0" r="0" b="0"/>
          <a:stretch/>
        </p:blipFill>
        <p:spPr>
          <a:xfrm>
            <a:off x="971640" y="1197000"/>
            <a:ext cx="2852640" cy="4656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5003640" y="738360"/>
            <a:ext cx="3032280" cy="6005520"/>
          </a:xfrm>
          <a:prstGeom prst="rect">
            <a:avLst/>
          </a:prstGeom>
          <a:ln w="0">
            <a:noFill/>
          </a:ln>
        </p:spPr>
      </p:pic>
      <p:sp>
        <p:nvSpPr>
          <p:cNvPr id="93" name="5 CuadroTexto"/>
          <p:cNvSpPr/>
          <p:nvPr/>
        </p:nvSpPr>
        <p:spPr>
          <a:xfrm>
            <a:off x="1968840" y="6021360"/>
            <a:ext cx="100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alibri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7 CuadroTexto"/>
          <p:cNvSpPr/>
          <p:nvPr/>
        </p:nvSpPr>
        <p:spPr>
          <a:xfrm>
            <a:off x="8043480" y="5754600"/>
            <a:ext cx="100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Calibri"/>
              </a:rPr>
              <a:t>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8 Conector recto de flecha"/>
          <p:cNvCxnSpPr/>
          <p:nvPr/>
        </p:nvCxnSpPr>
        <p:spPr>
          <a:xfrm flipV="1">
            <a:off x="3347640" y="1412640"/>
            <a:ext cx="1656360" cy="129600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96" name="10 Conector recto de flecha"/>
          <p:cNvCxnSpPr/>
          <p:nvPr/>
        </p:nvCxnSpPr>
        <p:spPr>
          <a:xfrm flipV="1">
            <a:off x="3347640" y="2564640"/>
            <a:ext cx="1809000" cy="14364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c00000"/>
                </a:solidFill>
                <a:latin typeface="Calibri"/>
              </a:rPr>
              <a:t>PLANIFICACIÓN DE PROYECTOS</a:t>
            </a: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2060"/>
                </a:solidFill>
                <a:latin typeface="Calibri"/>
              </a:rPr>
              <a:t>Ejercicios</a:t>
            </a: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3T04:48:45Z</dcterms:created>
  <dc:creator>Enrique Lepe</dc:creator>
  <dc:description/>
  <dc:language>en-US</dc:language>
  <cp:lastModifiedBy>Enrique Lepe</cp:lastModifiedBy>
  <dcterms:modified xsi:type="dcterms:W3CDTF">2011-08-13T05:51:32Z</dcterms:modified>
  <cp:revision>3</cp:revision>
  <dc:subject/>
  <dc:title>Planificación de Proyectos Didácticos</dc:title>
</cp:coreProperties>
</file>